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CDB-55BD-457F-8AB5-813300DD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210-CA11-41CE-BDF7-299D16D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81B-4D7B-4D45-92DF-9C441341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EBC-12A6-40D1-8967-BC1D5A24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130-D893-49E9-99C4-06A81E5A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712-D13E-425E-8807-40590103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698-622B-4530-BAF4-6C702E3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78B-CF11-464A-AF9F-D8BA2724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022-A517-48B2-8E9B-876F73BA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DC8-BC77-4821-9D8B-2EA57E90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E75-54F5-4204-BBD5-2962CF18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B46-711A-49CD-9B21-2DBD2C4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5D60-EB20-47EB-BFE9-9F2D3988C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s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is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ad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o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is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oul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im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ill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o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ge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a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bou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up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u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m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ach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ll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nly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e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n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s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im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o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k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ould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r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ew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f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y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w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ow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r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wo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r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v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uc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ve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uc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u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jus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d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s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at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u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ow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e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nt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4:21:26Z</dcterms:created>
  <dc:creator>user</dc:creator>
  <dc:description/>
  <dc:language>en-US</dc:language>
  <cp:lastModifiedBy>laurengriffin</cp:lastModifiedBy>
  <dcterms:modified xsi:type="dcterms:W3CDTF">2006-11-13T18:48:17Z</dcterms:modified>
  <cp:revision>5</cp:revision>
  <dc:subject/>
  <dc:title>High Frequency Words</dc:title>
</cp:coreProperties>
</file>